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4C1-5513-4D46-8036-6E68541A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361-9295-4E48-828B-FC46037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DAD-3922-48E3-9D0D-8347DB2E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F56-91A2-4C1A-B11B-CB4A7EE1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011-DAE3-4839-AB29-35715F72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6A9-6F5C-47A5-9009-2FE7E37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E80-E6A8-4EAC-942C-29E5608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96A-5046-4D78-B436-ED4160F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088A-1FB5-4FF7-A880-34F778C5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64AE-44B2-41E7-B4B2-B222FE9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B21-2EC0-4A8C-8206-2F4FFB4C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696-3E1B-4CAC-A431-FA14F461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F0F-D443-44C5-9743-4BE84D4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E33-4931-499C-8847-BF1D3B9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8B3-0ABB-43E2-AD29-6852FDC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08BD-A3D8-486A-A751-B96536D5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BF52-4949-46DC-9108-5F0C7DFE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041-C3FD-4CCD-9F5B-3B0DCDD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D38-229F-47AA-BD9C-0893942A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203-015F-4BE7-8A82-1413377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2CA-0F59-4C69-B199-A1870DB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A05-39DD-4EDB-8FF4-8566419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E6D-1997-4B58-8F93-DDBD907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6B1-3004-4A89-8DD0-EC4CA6E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3EE-9976-4A52-9B1F-51843A57A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C080-0B5C-47A7-8BC1-8F55175383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6 Расчет диаметра трубопро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7 Истечение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8 Понятие о ре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чет диаметров трубопров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жно при проектиров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бъемного расход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определяют диамет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ые значения средней скорости те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м/с         (для капельных жидкост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– 15 м/с     (газ, воздух при небольш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– 20 м/с   (газ, воздух при высок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– 30 м/с   (насыщенный па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– 50 м/с   (перегретый пар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33520"/>
            <a:ext cx="426744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5480" y="2362320"/>
                <a:ext cx="1832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0400" y="3505320"/>
                <a:ext cx="11984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υ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ечение жидк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ем уравнение Бернулли. Сначала исследуем истечение при постоянном уровн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33520"/>
            <a:ext cx="419112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2514600"/>
            <a:ext cx="3962520" cy="2408400"/>
            <a:chOff x="457200" y="2514600"/>
            <a:chExt cx="3962520" cy="2408400"/>
          </a:xfrm>
        </p:grpSpPr>
        <p:sp>
          <p:nvSpPr>
            <p:cNvPr id="117" name=""/>
            <p:cNvSpPr/>
            <p:nvPr/>
          </p:nvSpPr>
          <p:spPr>
            <a:xfrm>
              <a:off x="3231000" y="4214160"/>
              <a:ext cx="48420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9120" y="378900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ru-RU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46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3200" y="308088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8880" y="30808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616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9800" y="3177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306160" y="431064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040" y="388584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2174040" y="33019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3035880"/>
              <a:ext cx="18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4956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888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956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30580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3200" y="3364920"/>
              <a:ext cx="30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3200" y="4072320"/>
              <a:ext cx="250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275292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192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616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13800" y="360252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404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040" y="374436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0400" y="374436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13800" y="38858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34640" y="38858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252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1000" y="4073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364920"/>
              <a:ext cx="0" cy="15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5320" y="3364920"/>
              <a:ext cx="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74040" y="421488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174040" y="37267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382400" y="317700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382400" y="3320280"/>
              <a:ext cx="791280" cy="141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382400" y="346032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174040" y="344340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8040" y="336492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440" y="4923000"/>
              <a:ext cx="33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1680" y="3506400"/>
              <a:ext cx="470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9800" y="4498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9320" y="35056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3360" y="449712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9800" y="251460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29200" y="2209680"/>
                <a:ext cx="2778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267080" y="3025800"/>
            <a:ext cx="43434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) При атмосферном давлении 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в сечении 1-1 скорост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тог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87480" y="3319560"/>
                <a:ext cx="4190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00600" y="3733920"/>
                <a:ext cx="1366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705720" y="3886200"/>
                <a:ext cx="1533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806720" y="435744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эффициент истеч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8480" y="51048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При избыточном давл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3720" y="5562720"/>
                <a:ext cx="1323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81480" y="5562720"/>
                <a:ext cx="2249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ρ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5410080"/>
            <a:ext cx="27432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80988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ечение при снижающемся уровн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е значение имеет время истечения, а не скор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учетом полученных зависимостей, при убывающем уров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ля открытого резерву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33520"/>
            <a:ext cx="42670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91120" y="2514600"/>
                <a:ext cx="12301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2800" y="327600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и избыточном давлен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267080" y="3200400"/>
                <a:ext cx="1230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и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4400" y="380916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струй применяются насадки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4228920"/>
            <a:ext cx="5256720" cy="1028880"/>
            <a:chOff x="1143000" y="4228920"/>
            <a:chExt cx="5256720" cy="1028880"/>
          </a:xfrm>
        </p:grpSpPr>
        <p:sp>
          <p:nvSpPr>
            <p:cNvPr id="188" name=""/>
            <p:cNvSpPr/>
            <p:nvPr/>
          </p:nvSpPr>
          <p:spPr>
            <a:xfrm>
              <a:off x="2971800" y="43434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143000" y="4228920"/>
              <a:ext cx="5256720" cy="849960"/>
              <a:chOff x="1143000" y="4228920"/>
              <a:chExt cx="5256720" cy="8499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143000" y="4457520"/>
                <a:ext cx="1714320" cy="228600"/>
                <a:chOff x="1143000" y="4457520"/>
                <a:chExt cx="1714320" cy="2286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485720" y="4457520"/>
                  <a:ext cx="10285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43000" y="4571640"/>
                  <a:ext cx="79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71520" y="45716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14520" y="4343040"/>
                <a:ext cx="1256760" cy="457560"/>
                <a:chOff x="3314520" y="4343040"/>
                <a:chExt cx="1256760" cy="457560"/>
              </a:xfrm>
            </p:grpSpPr>
            <p:sp>
              <p:nvSpPr>
                <p:cNvPr id="195" name=""/>
                <p:cNvSpPr/>
                <p:nvPr/>
              </p:nvSpPr>
              <p:spPr>
                <a:xfrm rot="16200000">
                  <a:off x="3828600" y="417168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400000">
                  <a:off x="3828240" y="440064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1452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99996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1452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99996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029200" y="4228920"/>
                <a:ext cx="1370520" cy="685440"/>
                <a:chOff x="5029200" y="4228920"/>
                <a:chExt cx="1370520" cy="685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257800" y="4343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29120" y="4457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5257800" y="422856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257800" y="468648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29200" y="457200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71828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456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914400" y="51051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- Цилиндрически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8), 2 - Конические: А - сужа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9–0,95, для дальнобойной струи), Б – расширя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5–0,55, для большого расхода при малой кинетической энергии), 3 – Коноидальны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0,9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ньютоновские жидкости (3 основные группы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корость сдвига зависит от направления и не зависит от продолжительности воздействия – вязк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бингамовски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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– коэффициент пластической вязкости (густые суспензии, пас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псевдопластичные малые значения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( кажущаяся вязкост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), который уменьшается с увеличением градиента скорости (суспензии с асимметричными частица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дилантные -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растет с увеличением градиента скорости (суспензии с большим количеством твердой фаз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Напряжение сдвига зависит от градиента скорости и изменяется во вр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тиксотропные – со временем падает напряжение сдвига (разрушается структу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  реопектические – со временем растет напряжение сдви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язкоупругие (максвелловские) – текут при приложении напряжения, а после снятия восстанавливают частично форму (тест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счете трубопроводов определяют объемный расх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 о н я т и е  о  р е о л о г и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33520"/>
            <a:ext cx="48006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315200" y="5410080"/>
                <a:ext cx="601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7560" y="586656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- 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5480" y="5791320"/>
                <a:ext cx="738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υ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1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